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55E-F1A7-498F-B2A1-347815D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F1D-A398-4AD9-829F-1FF498D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030-3A65-4086-8836-60704465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089-ABC9-4931-8C46-759316A9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752-7A56-4812-81E1-E04F728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27A-F267-4D0C-AE75-C5901EC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362-8129-47E2-B7A6-93FF1DA4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0C4-70B4-47CB-B1D4-6C197AFC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1BA-7D12-4E46-BA9C-4BBB3DE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0C3-AC7C-44D0-B0B4-7C571A2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D62-E0F8-4942-8C88-4105D48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031-35BB-4B7B-BB83-FF3B78F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2E2-CEF4-4235-895B-94AED72D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terga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rough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rto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1055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in groups of 3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3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C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2286000" y="0"/>
            <a:ext cx="464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0" y="0"/>
            <a:ext cx="4648320" cy="670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71960" y="1752480"/>
            <a:ext cx="50720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4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D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2286000" y="0"/>
            <a:ext cx="4876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0" y="0"/>
            <a:ext cx="4876920" cy="670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3683" b="0"/>
          <a:stretch/>
        </p:blipFill>
        <p:spPr>
          <a:xfrm>
            <a:off x="4038480" y="4079880"/>
            <a:ext cx="51055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5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E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228600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0" y="0"/>
            <a:ext cx="4876920" cy="662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46240" y="0"/>
            <a:ext cx="6197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4688" t="5207" r="0" b="5207"/>
          <a:stretch/>
        </p:blipFill>
        <p:spPr>
          <a:xfrm>
            <a:off x="0" y="0"/>
            <a:ext cx="929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0" y="6555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4688" t="8431" r="0" b="20505"/>
          <a:stretch/>
        </p:blipFill>
        <p:spPr>
          <a:xfrm>
            <a:off x="0" y="1819440"/>
            <a:ext cx="8229600" cy="50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1523880"/>
            <a:ext cx="91440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 Ord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egally wiretapped left-wing individuals/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groups infiltrated (SDS, Black Panthers), spread conflict withi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A investigated dissidents (people opposed to government poli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IRS audit antiwar prot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nemies list “anyone who opposes us, we’ll destro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tente (easing Cold War 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ed China and Mos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: Strategic Arms Limitation Tre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 of intercontinental ballistic missiles and submarine launched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 of DNC head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Presidency: thought he was suprem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cutive privileg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can be used in matters of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 Spiro Agnew resigned, Nixon announced “I am not a cr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edited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po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full tapes, went to the Supreme Co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xon resigned BEFORE full Ho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e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e faith in the presidency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nic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mistru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ardone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Nix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1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A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88" t="6251" r="0" b="5207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5003" t="6251" r="21876" b="5207"/>
          <a:stretch/>
        </p:blipFill>
        <p:spPr>
          <a:xfrm>
            <a:off x="0" y="0"/>
            <a:ext cx="4694400" cy="58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93800"/>
            <a:ext cx="44956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2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B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1905120" y="0"/>
            <a:ext cx="5410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0" y="0"/>
            <a:ext cx="4913280" cy="601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340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0:07:44Z</dcterms:created>
  <dc:creator>School District U46</dc:creator>
  <dc:description/>
  <dc:language>en-US</dc:language>
  <cp:lastModifiedBy> </cp:lastModifiedBy>
  <dcterms:modified xsi:type="dcterms:W3CDTF">2008-04-30T02:30:07Z</dcterms:modified>
  <cp:revision>7</cp:revision>
  <dc:subject/>
  <dc:title>Slide 1</dc:title>
</cp:coreProperties>
</file>